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7B89-3CB4-484F-AE06-1821157C3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71A6-7AE2-4DCA-9FD1-5414ED411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HIV from: http://www.ox.ac.uk/news/2015-10-09-hiv-researchers-find-‘biomarkers’-can-predict-virus-remission-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2939-2544-4983-B59D-DC1DC7D56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714C-88FA-41DD-94A8-A3246CBFB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1536-2C7A-4BFA-ADF3-350FF19C9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19FC-C514-46DF-9C3E-1AB373285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kids.britannica.com/elementary/art-124682/Following-retrovirus-infection-reverse-transcriptase-converts-viral-RNA-into-provi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quell.com/en-us/resources-and-support/microbiology/influenza-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4AC7-F3FD-447A-86D7-89C5E8391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8083-E018-4FA5-B976-E0474C59A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esignedbabies.wordpress.com/2010/12/15/how-a-designer-baby-can-be-produce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655F-BC14-4832-A75C-0A65E8A7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487-5A3A-437D-B202-95FF1F56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B543-731E-4664-8C67-FFC64CED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1CC-1F65-445B-8E2F-6A113E78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946C-64F8-4165-BAC7-8DF4590B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A05-EEBF-4113-A7E6-D106EB18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F6B-4963-44AB-B794-11FA8BEB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9F20-1CAD-4DC2-8213-E3037FD2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BEF-64B7-4CF8-92A0-FBBF02E5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6AC-8AC0-4E05-9A07-3856D910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E1F-10EC-4427-9E9D-AA1AF661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B62E-AEBE-4134-BD42-7376DAD8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E912-006F-4B53-AB01-1380FE1B8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.7 Viruses: A Special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we already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considered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ucleic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tein c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aps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iruses also surrounded by enve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creen-capture-268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of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es can have double-stranded DNA, single-stranded DNA, or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al DNA is transcribed and translated to synthesize viral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viral RNA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ro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ject RNA &amp; enzymes into hos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e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cript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verse transcribes viral RNA to make a single-stranded DNA and its complementary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orporates viral DNA into host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126182-004-A23C1423"/>
          <p:cNvPicPr/>
          <p:nvPr/>
        </p:nvPicPr>
        <p:blipFill>
          <a:blip r:embed="rId1"/>
          <a:stretch/>
        </p:blipFill>
        <p:spPr>
          <a:xfrm>
            <a:off x="1749600" y="609480"/>
            <a:ext cx="564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 in RNA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za A virus has 8 genes that code for 11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al polymerase enzymes show high rate of replication error (i.e. mutations are comm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6" descr="Microbiology_420x420_Influenza_virus_2008765.jpg"/>
          <p:cNvPicPr/>
          <p:nvPr/>
        </p:nvPicPr>
        <p:blipFill>
          <a:blip r:embed="rId1"/>
          <a:srcRect l="3707" t="0" r="3707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es as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enetic information can be inserted into a cell or bacterium using a viral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science611"/>
          <p:cNvPicPr/>
          <p:nvPr/>
        </p:nvPicPr>
        <p:blipFill>
          <a:blip r:embed="rId1"/>
          <a:stretch/>
        </p:blipFill>
        <p:spPr>
          <a:xfrm>
            <a:off x="4648320" y="3027240"/>
            <a:ext cx="38098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4:31:49Z</dcterms:created>
  <dc:creator>rubina khan</dc:creator>
  <dc:description/>
  <dc:language>en-US</dc:language>
  <cp:lastModifiedBy>rubina khan</cp:lastModifiedBy>
  <dcterms:modified xsi:type="dcterms:W3CDTF">2017-04-07T13:48:41Z</dcterms:modified>
  <cp:revision>50</cp:revision>
  <dc:subject/>
  <dc:title>Viruses</dc:title>
</cp:coreProperties>
</file>